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1983-BE2D-47AF-822E-31375CEA55A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9D66-82A3-4898-9571-7BF571AA5FF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EABB-4C61-42E2-8A76-94638EBF69E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AC13-E41E-447A-98CA-4CBA0BAA306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急性上呼吸道感染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cute Upper Respiratory Infectio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URI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简称上感）是小儿时期最常见的疾病，是病原体侵犯喉以上呼吸道系统的急性炎症的统称，包括以急性咽炎为主的普通感冒，及急性鼻窦炎、扁桃体咽炎、喉炎、会厌炎等。当炎症仅局限在某一部位（或器官）时，则称该部位炎症，如急性咽炎、急性扁桃体炎、急性鼻炎等。当上感由流行性感冒病毒引起，并在某一地区人群中发生流行时，则称为流行性感冒。上感的病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上为病毒，细菌仅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，不同年龄小儿上感有不同的特点，并有两种特殊类型的上感，咽结合膜热和疱疹性咽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一、病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上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％以上是病毒，主要有呼吸道合胞病毒、流感病毒、副流感病毒、腺病毒、鼻病毒和柯萨奇病毒等。病毒感染后也可继发细菌感染，常见为溶血性链球菌、肺炎链球菌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咽结合膜热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haryngo-conjunctival fever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腺病毒引起，春夏季发病多，可在集体儿童机构中流行。临床以发热、咽炎、结合膜炎为主要特征。表现为高热、咽痛、一侧或双侧眼结合膜炎，眼部刺痛、流泪、结膜充血。颈部、耳后淋巴结肿大，有时伴胃肠道症状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知识卡片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influenza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简称流感，是由流感病毒引起，可致大流行。常突然发生，蔓延迅速，发病率高，流行期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的早期症状类似感冒的症状，包括高热、头痛、身体虚弱、全身肌肉酸痛，部分患者流清涕、鼻塞、咽痛、眼结膜充血等。特点是全身症状重而呼吸道局部症状较轻。预防流行性感冒的最有效方法包括：充足睡眠、均衡饮食、适量运动及保持空气流通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并发症  婴幼儿可继发中耳炎、咽后壁脓肿、支气管炎、肺炎和败血症等，年长儿若患链球菌性上感可引起急性肾炎、风湿热等疾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三）实验室及其他检查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毒感染者白细胞计数正常或偏低，病毒分离和血清反应可明确病原体；细菌感染者白细胞增高，中性粒细胞增高，咽拭子培养可有病原菌生长；链球菌引起者血中抗链球菌溶血素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S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滴度可增高。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无异常改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要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原则以支持疗法和对症治疗为主，适当选用抗病毒药物，如三氮唑核苷（病毒唑），每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mg/k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分次肌注或静滴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继发细菌感染或发生并发症者应用抗生素；如确诊为溶血性链球菌感染或既往有肾炎、风湿热病史者，应用青霉素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护理诊断／合作性问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舒适的改变  与咽痛、鼻塞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体温过高  与上呼吸道感染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潜在并发症：惊厥  与高热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降低体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体温变化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测一次体温，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给予物理降温，如头部冷敷、腋下及腹股沟处置冰袋、温水或乙醇擦浴、冷盐水灌肠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遵医嘱给予退热剂，口服对乙酰氨基酚或布洛芬。复方柴胡注射液肌内注射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保证患儿摄入充足的水分，鼓励患儿多饮水，给予易消化和富含维生素的清淡饮食，必要时静脉补充营养和水分；及时更换汗湿的衣服并适度保暖，避免因受凉而使症状加重或反复；保持口腔及皮肤清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观察病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病情变化，警惕高热惊厥的发生。当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应采取降温措施，并保持室内安静，减少刺激。密切观察有无惊厥先兆，尤其是对有高热惊厥史的患儿更应注意，若高热患儿出现兴奋、烦躁、惊跳等惊厥先兆，应立即通知医生，按医嘱给予地西泮、苯巴比妥、水合氯醛等镇静药并同时采取降温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患儿病情加重，体温持续不退，应考虑有无并发症的可能，需及时报告和处理。如病程中出现皮疹，应区别是否为某种传染病早期征象，以便及时采取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健康教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导家长掌握上呼吸道感染的预防知识和护理要点，懂得相应的应对技巧，如加强体格锻炼多进行户外活动，以增强机体抵抗力，但在呼吸道疾病流行期间，避免去人多拥挤的公共场所；气候变化时及时添减衣服，避免过热或过冷。鼓励母乳喂养，及时添加辅食，积极防治各种慢性疾病，如佝偻病、营养不良及贫血等，按时预防接种。在集体儿童机构中，如有上感流行趋势，应早期隔离患儿，室内用食醋熏蒸法消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ml/m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加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倍，加热熏蒸到全部气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AE36-B0C7-417F-90AE-E9CA3CD3857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呼吸系统以环状软骨为界，划分为上下呼吸道，上呼吸道分为鼻、鼻窦、咽、咽鼓管、会厌及喉；下呼吸道分为气管、支气管、毛细支气管、肺泡管及肺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发病机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体多由呼吸道入侵，也可经血行入肺，引起支气管、肺泡、肺间质炎症，支气管因黏膜水肿而管腔变窄，肺泡壁因充血水肿而增厚，肺泡腔内充满炎症渗出物，造成通气和换气功能障碍，导致低氧血症及高碳酸血症。为代偿缺氧，患儿呼吸与心率加快，出现鼻翼扇动和三凹征，严重时可产生呼吸衰竭。由于病原体作用，重症肺炎常伴有毒血症，导致不同程度的感染中毒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缺氧、二氧化碳潴留及毒血症可致机体代谢及器官功能障碍：①循环系统：缺氧使肺小动脉反射性收缩，肺循环压力增高，造成肺动脉高压；同时病原体和毒素侵袭心肌，引起中毒性心肌炎。肺动脉高压和中毒性心肌炎均可诱发心力衰竭；②中枢神经系统：缺氧和高碳酸血症使脑血管扩张、血流减慢、血管通透性增加，可致脑水肿和颅内压增高。病原体毒素作用亦可引起脑水肿；③消化系统：低氧血症和毒血症可引起胃黏膜糜烂、出血、上皮细胞坏死脱落等应激性反应，导致黏膜屏障功能破坏，使胃肠功能紊乱，严重者可引起中毒性肠麻痹和消化道出血；④水、电解质和酸碱平衡紊乱：重症肺炎可出现混合性酸中毒，因为严重缺氧时体内需氧代谢障碍，酸性代谢产物增加常可引起代谢性酸中毒，而二氧化碳潴留、碳酸增加又可导致呼吸性酸中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实验室及其他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血常规  细菌性肺炎时白细胞总数及中性粒细胞增高，并有核左移，胞浆中可见中毒颗粒；病毒性肺炎时白细胞总数正常或降低，有时可见异型淋巴细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学检查  取鼻咽拭子或气管分泌物标本可作病毒分离和鉴别；取痰液、气管吸出物、胸水、脓液及血液等作细菌培养，可明确病原菌；肺炎支原体、沙眼衣原体、真菌等可通过特殊分离培养获得相应病原诊断；病毒特异性抗原和抗体检测有助于早期诊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  支气管肺炎早期肺纹理增粗，以后出现大小不等的斑片状阴影，可融合成片，以双肺下野、中内带及心膈区居多，多伴有肺不张或肺气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6615-67ED-4DAC-A094-46C07C0F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6D59-4548-4ADB-9073-68609FBA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39814F-BE0E-4A1B-A792-6A8A1D10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1D47E-CE63-4E09-9D22-D6F4FD38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560F0D-C78D-4309-9E42-090C618B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8B6E2E-C624-4896-A657-74BD3A3B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55BEA-EEB0-4CA2-939F-4329D2FF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93D42D-C061-4BAD-AB91-BDF3AE03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FEE104-EE18-4D6E-89A4-53ECCD47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68CBEA-3DC6-46B0-9FDD-DF899BD4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01472A-6757-407D-9E33-947D7A25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1B19C9-475F-4B1A-BD39-5E50B8AA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4B4D-500E-4129-9CB2-E475C9EB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C624A4-4D04-40E2-AEBF-A04ECBCC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0E4F9-4B33-4F89-9EE0-D1B5E45D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422BE8-E400-40A6-B606-FA302803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1404CF-A629-45C8-82CC-02BAC8E0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8209AF-DEE6-4CC3-B944-1E731DAA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EA1339-BD7C-4298-8F6F-D94ECFF6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1AEC75-145D-4CE9-BCC6-C71C9D5E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E79635-BACE-4B67-8789-3A4277FA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0F404-FDF0-4F68-BA41-800553CE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F9D4C3-FE1E-4313-B450-E044D988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E8B-663B-41B1-8F6B-E6AADCA4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EDE36-1286-4137-8A98-0E489051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AC71E5-DA8B-4796-9BF3-DCFEA986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9EF18D-CABF-4732-955C-1D9AAD1D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E80A99-DFE6-4CDF-911C-FBBE9EB0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F7FAA2-529F-4C58-9A43-619FA631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E2CED1-3FF8-49F4-954A-D055EACB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EDFFC2-685A-4821-9039-BC26C10B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9CC077-F340-49CD-9F25-B3804D05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BD52CF-622C-4812-87EC-FEB63E1F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9E4316-B5EF-4A22-8862-5030D184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ABD558-28F2-457C-B407-043BD2F3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BBFBCA-8A6F-4DC8-BDCC-4445BC50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60D530-F658-4717-BF5B-770A3508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81825F-464E-471D-A4B2-611EC728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859170-F48F-4AA4-B544-43D1E116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A5C001-2753-43DB-A635-2EA7A3E4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47B012-52D9-48B4-B17F-0B3310D5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723786-5451-4D47-9BDD-065A4269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32BF17-8CB6-4730-B21E-FC21824B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E4B8C-21C5-46AD-A00E-FFFC3DEB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62114-E455-452A-9C5B-B3D96383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1357F3-141F-472B-8FAF-FECC658B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2DDF9B-4AD7-4FE7-A6E6-50567812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A62529-D678-46AF-AB1E-F9FE5621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35E00D-AA73-4CE3-BF14-5C773B69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9E91-E255-458C-AF37-75D66FBA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D5E2CB-1CC1-4B52-BBB0-A1C8F7AB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F52D55-CD8D-481B-9AD0-0DB6FE97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498DB2-98E4-469F-9889-72DB340E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1D633D-BAA0-4D7F-94F5-E684947C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DD08E5-F624-45BF-BCD0-D7B1081B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060A-0488-4211-8E3D-31588BC7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075765-93DF-4E2C-A5EF-0D1F39F5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E80B26-E3E1-4EB2-A7CE-68B90528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CDDB5A-DE2E-4B08-A15B-F70A78A5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6226BB-DD8A-4A69-94EC-69C01647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7137CA-9FEC-4BE7-A6FF-88489054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C5FA3F-5DEC-4C0E-A67A-7E15C79E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8268B2-B86E-4210-B818-D84823D2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AE74E9-352F-4436-BA1A-9DF1A7BE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1D2A5F-461D-42B6-AFC7-2ED0E0BF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76A2DF-1752-4A97-8358-32A027C3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0B5F-B4A6-4517-8ACB-51472E4C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5A5D07-652D-4799-BE43-80E9EAB8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32515D-0990-41D9-8939-0C2D3542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3B17E5-3123-400E-948A-B5950C34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26829C-17FB-4896-9354-3EDE4BE5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51EDAF-C49A-4A6E-BDD8-3BBBAF99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7CF63C-833B-4D95-8984-A782AF38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CE1A12-ED6A-4B62-A706-BE174A49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788EA3-484D-4A0A-B2CD-08FA0311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210591-2F76-427A-BC2E-AA18669C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6D1348-9485-4481-A861-300CC7B5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30C9-9274-4046-90A0-D543F6AF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77EF7C-256B-4F65-BD21-653EF9BB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66E909-A664-4276-A9FB-5EAC4161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F3775E-52F6-4FCC-BB90-A88DD7AC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97A98C-A6C9-456F-8190-29ACC7F5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2EBD9C-FAFD-4467-A55B-4A1DDEEB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A999D2-4E94-4579-BC79-152556D8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E9DB28-5406-4194-9BDB-1EB97D9D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52164E-ABBC-4010-8158-DD164DBB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A2638E-D69A-4E03-A980-E3C4766A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E0480A-F41F-444D-9A15-76CA2914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E11B-022D-432E-93E0-A3CF477A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53EEEA-51A7-4860-A0AF-0D430ADA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C8394C-4F65-459B-AC93-7ACB0434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DC1E96-4CC9-4FA5-A477-FC579606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E433EF-18B3-41EA-A2CA-E3CE8E47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37BCA2-C070-4E60-B4E5-1B407CB8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1E8CA1-F727-4511-B151-618660DA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4DFB96-A31B-4567-AFBD-C852D05B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FE07A9-38C0-4220-BA2F-64356B01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CED476-7D64-4602-A16B-630A238D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B07E5A-0156-4D68-9B4C-5CBEE589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8A8-F579-4D08-A2ED-6DF16D0E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19E9A4-6C81-41CC-AD52-BE4146FA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AA3AC6-2254-4D2B-84F3-73A5415D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400D46-9F40-4C5D-8A1B-14BF34B7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99BEF8-186F-43D4-98D6-F9600DDD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F1E2CA-8EA0-4781-9578-5D79C13C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0E3FCA-2B2F-402E-AE19-5461BA85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3588FC-4B2C-4CF1-881A-6F2505D6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69E112-1882-4603-B870-9B7DF63B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086AB2-A4A6-4B75-8C75-2C7662F7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0D776D-E6C6-4B9C-9923-33E69CA2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B0E3-8521-4EA9-B805-3287E2C8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6FFC78-D9ED-4CEA-BED0-AFB88695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FB5D94-7E0E-4348-98A5-4FC5A42B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F500D4-55D9-45D0-B752-F6BD7919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8D359B-6090-474A-B586-372E12B9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E2232C-D56E-4E19-8A94-36301746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D48CDB-2E68-4738-AAF6-0BCF963E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F1E766-5507-4256-B445-DC431321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59EBFA-13F2-4834-BC9B-D6124824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4E0089-5ED3-406A-BF28-BA2EACB5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8E2D8D-3119-4348-B04A-7E8E064F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48E6-4EA6-495F-BDC1-90D83B59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370445-EF67-47FD-9555-4DD2E379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CC9277-F5B0-42CE-94DA-244E086E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4F85BF-B4F2-47B2-BE19-33218AAE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39AEC3-C757-4893-9275-F5A7D2FF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ABF396-D2FB-4760-A7A6-F111D49F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6F77BF-5945-415B-96A5-74964AA8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4A8BDB-5B95-450B-BAB7-610AE47D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2F3DC-E5A8-41BC-9865-BD9E412A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5D6942-6882-42D4-8E6F-B235FBE4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92D016-45EC-4FB0-8761-5F5FBFCF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67E5-4388-4681-83FB-190A96022ACA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9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9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9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4B3A-97F3-47CA-9B9B-F045BE4E816B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54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55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55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9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0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878E-D432-4C5E-9B8C-2D530954E84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60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0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60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2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3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D554-3256-4AC8-89AA-4924B4C795BA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6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" name="Rectangle 92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7" name="Rectangle 93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" name="Line 107"/>
          <p:cNvSpPr/>
          <p:nvPr/>
        </p:nvSpPr>
        <p:spPr>
          <a:xfrm>
            <a:off x="2666880" y="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2" name="Line 109"/>
          <p:cNvSpPr/>
          <p:nvPr/>
        </p:nvSpPr>
        <p:spPr>
          <a:xfrm>
            <a:off x="0" y="53960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" name="Line 10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" name="Line 110"/>
          <p:cNvSpPr/>
          <p:nvPr/>
        </p:nvSpPr>
        <p:spPr>
          <a:xfrm>
            <a:off x="5778360" y="2139840"/>
            <a:ext cx="0" cy="326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0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1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1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3940-1B89-478C-8634-EB215D76FDE6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6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6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6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ACE1-EC57-48D0-BF79-76FFE7E1F1AA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1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2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2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3D6C-2552-4AA7-8303-E51A178B818C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7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7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7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4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EC3C-CD22-470C-A966-9121AFC3666D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2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3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3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7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C0AB-1566-4928-97B2-3009BCB50210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8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8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8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224E-1D35-4C43-95D6-F68808DD32A4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3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4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4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6710-7104-44EF-94E0-3BF2990AC194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1057;%B6%F9%B7%CE%D1&#1530;%F4%CE%FC%C0%A7%C4%D1&amp;in=10775&amp;cl=2&amp;lm=-1&amp;pn=268&amp;rn=1&amp;di=21061037910&amp;ln=1813&amp;fr=&amp;fmq=&amp;ic=0&amp;s=2&amp;se=1&amp;sme=0&amp;tab=&amp;width=&amp;height=&amp;face=0&amp;is=&amp;istype=2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400" y="691920"/>
            <a:ext cx="842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九章 呼吸系统疾病患儿的护理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105520" y="6477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1403280" y="1700280"/>
            <a:ext cx="1224000" cy="36036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6516720" y="6381720"/>
            <a:ext cx="2627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4394880" y="5445000"/>
            <a:ext cx="2468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内蒙古医科大学附属医院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王继春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68" name="图片 6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500040" y="1989000"/>
            <a:ext cx="846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胸廓：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桶状、肋骨平、膈肌高、胸腔小、呼吸肌弱、纵隔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718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效性呼吸型态 与支气管痉挛、黏膜水肿及支气管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泌物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与呼吸道分泌物黏稠，体弱无力排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呼吸衰竭、心力衰竭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焦虑  与呼吸困难、环境改变、哮喘反复发作有 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识缺乏  患儿及家长缺乏有关哮喘的防护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置患儿于舒适坐位、半卧位或抬高头肩，指导和鼓励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儿做深而慢的呼吸运动，改善呼吸困难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导管或面罩吸氧，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L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／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流量持续吸氧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注意湿化氧气，定时进行动脉血气分析，及时调整氧流量，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0mmH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给予雾化吸入、胸部叩击，以促进分泌物的排出，也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采用体位引流以协助患儿排痰，必要时吸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遵医嘱给予支气管扩张剂和肾上腺皮质激素，注意观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和副作用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459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患儿及家长识别并避免诱发哮喘的因素，如花粉、粉尘、鱼虾、寒冷刺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强体质，预防呼吸道感染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正确用药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并鼓励做呼吸功能锻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提供出院时需要使用的药物资料，如服药方法、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事项、不良反应等，强调坚持门诊随访的重要性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105520" y="647676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1403280" y="1557360"/>
            <a:ext cx="1152720" cy="50328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59640" y="6381720"/>
            <a:ext cx="2484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2" name="Text Box 7"/>
          <p:cNvSpPr/>
          <p:nvPr/>
        </p:nvSpPr>
        <p:spPr>
          <a:xfrm>
            <a:off x="0" y="54936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73" name="图片 5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9915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频率节律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龄越小频率越大，易节律不齐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型态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膈式呼吸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功能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各项指标储备力低、气道阻力大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900000" y="189000"/>
            <a:ext cx="2448000" cy="5814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生理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8103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特异性、非特异性免疫功能均差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反射弱、平滑肌薄、纤毛运动差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SIg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亚类含量低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巨噬细胞、乳铁蛋白、溶菌酶、干扰素、补体等均不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1042920" y="189000"/>
            <a:ext cx="2233800" cy="58140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Times New Roman"/>
              </a:rPr>
              <a:t>免疫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2376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858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体格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血气分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影像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支气管镜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功能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592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971640" y="1571760"/>
            <a:ext cx="64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体格检查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呼吸频率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发绀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时胸廓凹陷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喘鸣、呼气喘息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肺部体征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2303640" cy="647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2411280" y="11253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</a:rPr>
              <a:t>小儿血气分析正常值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24000" y="2421000"/>
          <a:ext cx="8643960" cy="3892320"/>
        </p:xfrm>
        <a:graphic>
          <a:graphicData uri="http://schemas.openxmlformats.org/drawingml/2006/table">
            <a:tbl>
              <a:tblPr/>
              <a:tblGrid>
                <a:gridCol w="1726920"/>
                <a:gridCol w="2376720"/>
                <a:gridCol w="2379600"/>
                <a:gridCol w="21607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项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新  生 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&gt;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H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21" name="直接连接符 8"/>
          <p:cNvSpPr/>
          <p:nvPr/>
        </p:nvSpPr>
        <p:spPr>
          <a:xfrm>
            <a:off x="214200" y="5429160"/>
            <a:ext cx="8643960" cy="0"/>
          </a:xfrm>
          <a:prstGeom prst="line">
            <a:avLst/>
          </a:prstGeom>
          <a:ln w="9360">
            <a:solidFill>
              <a:srgbClr val="97b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66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节  急性上呼吸道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上呼吸道感染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ute upper respirator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fe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简称上感，“感冒”。小儿最常见疾病。主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鼻、鼻咽和咽部的急性感染。病原体主要侵犯鼻、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扁桃体、及喉部引起的炎症。急性鼻炎、鼻窦炎，急性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炎、急性扁桃体炎、急性喉炎等。冬春季多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感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0%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呼吸道合胞病毒、流感病毒、副流感病毒、腺病毒、鼻病毒、柯萨奇病毒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：多继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溶血性链球菌、肺炎球菌、流感嗜血杆菌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炎支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11600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58560" y="198360"/>
            <a:ext cx="613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防御机能低：解剖生理和免疫特点，营养不良、佝偻病、贫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环境因素：通风不良，室内空气污染、冷热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护理不当：受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332000" y="1447920"/>
            <a:ext cx="7345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两种特殊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1187280" y="18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 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页脚占位符 4"/>
          <p:cNvSpPr/>
          <p:nvPr/>
        </p:nvSpPr>
        <p:spPr>
          <a:xfrm>
            <a:off x="6232680" y="654696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1" name="Rectangle 49"/>
          <p:cNvSpPr/>
          <p:nvPr/>
        </p:nvSpPr>
        <p:spPr>
          <a:xfrm>
            <a:off x="6227640" y="6381720"/>
            <a:ext cx="2916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2" name="Text Box 51"/>
          <p:cNvSpPr/>
          <p:nvPr/>
        </p:nvSpPr>
        <p:spPr>
          <a:xfrm>
            <a:off x="125892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08e"/>
                </a:solidFill>
                <a:latin typeface="宋体"/>
                <a:ea typeface="宋体"/>
              </a:rPr>
              <a:t>一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6176880" y="0"/>
            <a:ext cx="2967120" cy="90504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19447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识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不同病原体所致肺炎的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阐述支气管肺炎和支气管哮喘的临床表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定义：疱疹性咽峡炎、咽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、咳嗽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异性哮喘、哮喘持续状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理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复述小儿呼吸系统的解剖、生理及免疫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明支气管肺炎的病理生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释支气管肺炎、支气管哮喘护理措施的依据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用护理程序对支气管肺炎、支气管哮喘患儿实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施护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长期吸入治疗的支气管哮喘患儿进行用药指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534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体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684360" y="189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一般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58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柯萨奇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组病毒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引起，好发于夏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表现：急起高热、咽痛、流涎、厌食、呕吐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体检：咽充血，咽腭弓、腭垂、软腭有疱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腺病毒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型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多发于春夏季，可流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征性表现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咽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结合膜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临床表现：高热、咽痛、眼部刺痛、有时伴有消化道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格检查：咽部充血、白色点块状分泌物，周边无红晕，易于剥离，一侧或双侧滤泡性眼结合膜炎，可伴球结膜出血颈后及耳后淋巴结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-181080" y="1371600"/>
            <a:ext cx="907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婴幼儿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邻近器官组织蔓延：可引起中耳炎、鼻窦炎、咽后壁脓肿、扁桃体周围脓肿、颈淋巴结炎、喉炎、支气管炎及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损伤：可引起急性肾小球肾炎和风湿热、类风湿等结缔组织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并发症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42920" y="1447920"/>
            <a:ext cx="76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抗感染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5029200" y="4876920"/>
            <a:ext cx="609480" cy="0"/>
          </a:xfrm>
          <a:prstGeom prst="line">
            <a:avLst/>
          </a:prstGeom>
          <a:ln w="9360">
            <a:solidFill>
              <a:srgbClr val="eee0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16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116000" y="1876680"/>
            <a:ext cx="65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健康史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身体状况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心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社会状况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388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与上呼吸道感染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疼痛：头痛或咽痛  与发热及咽部炎症有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惊厥、中耳炎、肾炎或风湿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6624720" y="26028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75564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604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热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鼻塞的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咽痛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684360" y="189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934560" y="1412640"/>
            <a:ext cx="8209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警惕热性惊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防并发症：黏膜皮肤有无皮疹、神经系统症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后壁脓肿时，防止破溃后引起的窒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退热剂后应注意多饮水，以防大量出汗引起虚脱，如有虚脱现象，应给予保暖、饮热水，严重者给予静脉输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热性惊厥的患儿使用镇静剂时，应注意观察止惊的效果及药物的不良反应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青霉素等抗生素时，应注意观察有无过敏反应发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节  小儿呼吸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415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剖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道免疫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检查方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7732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居室要经常通风，防止被动吸烟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集体小儿机构中隔离患儿，食醋熏蒸消毒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避免去人多的公共场所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合理饮食起居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母乳喂养，加强体格锻炼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及时增减衣服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积极防治营养不良、佝偻病、贫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三节  急性支气管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急性支气管炎（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cute bronchitis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指由各种病原体引起的支气管黏膜的炎症，由于气管常同时受累，故又称为急性气管支气管炎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cute tracheo-bronchitis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常继发于急性上呼吸道感染，或为某些急性传染病临床表现的一部分。婴幼儿多见，且症状较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染  主要原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功能低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异性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427640" y="260280"/>
            <a:ext cx="24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84360" y="189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因及发病机制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7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多先有上呼吸道感染症状，之后以咳嗽为主要症状，开始为干咳，以后渐有支气管分泌物而为有痰的咳嗽。婴幼儿症状较重，常有发热及呕吐、腹泻、腹痛等消化道症状，不会咳痰，多经咽部咽下。年长儿一般全身症状不明显，发热可有可无，可诉头痛及胸痛。肺部听诊双肺呼吸音粗，可闻及不固定的散在的干湿啰音和大、中水泡音。急性症状一般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有时迁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或反复发作。如不经适当治疗可引起肺炎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显示正常或肺纹理增粗，肺门阴影增深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t49702.gif (16165 bytes)"/>
          <p:cNvPicPr/>
          <p:nvPr/>
        </p:nvPicPr>
        <p:blipFill>
          <a:blip r:embed="rId2"/>
          <a:stretch/>
        </p:blipFill>
        <p:spPr>
          <a:xfrm>
            <a:off x="5867280" y="3124080"/>
            <a:ext cx="32767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26560" y="1600200"/>
            <a:ext cx="72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控制感染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684360" y="1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心理、社会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77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温过高  与病毒或细菌感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清理呼吸道无效  与痰液黏稠不易咳出，气道分泌物堆积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证充足的水分及营养供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口腔清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保持呼吸道通畅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68436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节   肺炎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769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肺炎（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pneumonia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由不同病原体或其他因素（吸入羊水、过敏等）所致的肺部炎症，以发热、咳嗽、气促、呼吸困难和肺部固定湿啰音为主要表现。肺炎为儿科常见病，尤其多见于婴幼儿，也是婴儿时期主要死亡原因，严重影响小儿健康，被卫计委列为小儿四病防治之一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HX"/>
          <p:cNvPicPr/>
          <p:nvPr/>
        </p:nvPicPr>
        <p:blipFill>
          <a:blip r:embed="rId1"/>
          <a:stretch/>
        </p:blipFill>
        <p:spPr>
          <a:xfrm>
            <a:off x="3989520" y="907920"/>
            <a:ext cx="5154480" cy="595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肺部解剖2"/>
          <p:cNvPicPr/>
          <p:nvPr/>
        </p:nvPicPr>
        <p:blipFill>
          <a:blip r:embed="rId2"/>
          <a:stretch/>
        </p:blipFill>
        <p:spPr>
          <a:xfrm>
            <a:off x="900000" y="2781360"/>
            <a:ext cx="3124440" cy="2811240"/>
          </a:xfrm>
          <a:prstGeom prst="rect">
            <a:avLst/>
          </a:prstGeom>
          <a:ln w="0">
            <a:noFill/>
          </a:ln>
        </p:spPr>
      </p:pic>
      <p:sp>
        <p:nvSpPr>
          <p:cNvPr id="681" name="Line 5"/>
          <p:cNvSpPr/>
          <p:nvPr/>
        </p:nvSpPr>
        <p:spPr>
          <a:xfrm>
            <a:off x="4495680" y="2286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95280" y="1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解剖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3" name="图片 1" descr=""/>
          <p:cNvPicPr/>
          <p:nvPr/>
        </p:nvPicPr>
        <p:blipFill>
          <a:blip r:embed="rId3"/>
          <a:stretch/>
        </p:blipFill>
        <p:spPr>
          <a:xfrm>
            <a:off x="6537240" y="0"/>
            <a:ext cx="26067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116000" y="3716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1" name="AutoShape 6"/>
          <p:cNvSpPr/>
          <p:nvPr/>
        </p:nvSpPr>
        <p:spPr>
          <a:xfrm>
            <a:off x="2268360" y="2349360"/>
            <a:ext cx="425520" cy="3168720"/>
          </a:xfrm>
          <a:custGeom>
            <a:avLst/>
            <a:gdLst>
              <a:gd name="textAreaLeft" fmla="*/ 271800 w 425520"/>
              <a:gd name="textAreaRight" fmla="*/ 425880 w 4255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60"/>
                </a:lnTo>
                <a:cubicBezTo>
                  <a:pt x="10800" y="10360"/>
                  <a:pt x="5400" y="11260"/>
                  <a:pt x="0" y="11260"/>
                </a:cubicBezTo>
                <a:cubicBezTo>
                  <a:pt x="5400" y="11260"/>
                  <a:pt x="10800" y="12160"/>
                  <a:pt x="10800" y="130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2771640" y="213372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毒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771640" y="278136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细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771640" y="335772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原体、衣原体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700360" y="39337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真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6" name="Text Box 12"/>
          <p:cNvSpPr/>
          <p:nvPr/>
        </p:nvSpPr>
        <p:spPr>
          <a:xfrm>
            <a:off x="2700360" y="4581360"/>
            <a:ext cx="583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吸入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过敏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7" name="Text Box 35"/>
          <p:cNvSpPr/>
          <p:nvPr/>
        </p:nvSpPr>
        <p:spPr>
          <a:xfrm>
            <a:off x="755640" y="1890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6"/>
          <p:cNvSpPr/>
          <p:nvPr/>
        </p:nvSpPr>
        <p:spPr>
          <a:xfrm>
            <a:off x="1547640" y="3357720"/>
            <a:ext cx="10670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程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0" name="AutoShape 17"/>
          <p:cNvSpPr/>
          <p:nvPr/>
        </p:nvSpPr>
        <p:spPr>
          <a:xfrm>
            <a:off x="2556000" y="270828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843280" y="24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急性肺炎：病程＜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2916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迁延性肺炎：病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2987640" y="4149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慢性肺炎：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4" name="Text Box 32"/>
          <p:cNvSpPr/>
          <p:nvPr/>
        </p:nvSpPr>
        <p:spPr>
          <a:xfrm>
            <a:off x="684360" y="18900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1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5"/>
          <p:cNvSpPr/>
          <p:nvPr/>
        </p:nvSpPr>
        <p:spPr>
          <a:xfrm>
            <a:off x="755640" y="393372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7" name="AutoShape 7"/>
          <p:cNvSpPr/>
          <p:nvPr/>
        </p:nvSpPr>
        <p:spPr>
          <a:xfrm>
            <a:off x="1979640" y="299736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2411280" y="270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气管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340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大叶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41128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间质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684360" y="189000"/>
            <a:ext cx="15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1"/>
          <p:cNvSpPr/>
          <p:nvPr/>
        </p:nvSpPr>
        <p:spPr>
          <a:xfrm flipH="1">
            <a:off x="1259640" y="2565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 情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2268360" y="2276640"/>
            <a:ext cx="503280" cy="10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2700360" y="2133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轻症肺炎：主要为呼吸系统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2771640" y="306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重症肺炎：全身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900000" y="47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临床表现是否典型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4356000" y="4137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典型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9" name="Rectangle 27"/>
          <p:cNvSpPr/>
          <p:nvPr/>
        </p:nvSpPr>
        <p:spPr>
          <a:xfrm>
            <a:off x="4356000" y="551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非典型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0" name="AutoShape 28"/>
          <p:cNvSpPr/>
          <p:nvPr/>
        </p:nvSpPr>
        <p:spPr>
          <a:xfrm>
            <a:off x="3708360" y="4365720"/>
            <a:ext cx="503280" cy="1439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755640" y="1890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3276720" y="27082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1042920" y="36694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按发生地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780000" y="24922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社区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4044960" y="498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院内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bronchopneumonia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小儿时期最常见的肺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年四季均可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出生体重、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缺乏、先天性心脏病易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病原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为病毒和细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（发达国家）：呼吸道合胞病毒、腺病毒、流感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（发展中国家）：肺炎链球菌、葡萄球菌、链球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原体、衣原体等引起的肺炎呈上升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菌及卡氏肺孢子虫易感染早产儿、艾滋病等患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12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机体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呼吸系统解剖、生理、免疫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龄及营养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2818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疾病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度佝偻病、接受化疗、放疗、免疫抑制治疗的小儿或原发性免疫缺陷小儿易患肺炎，易致重型肺炎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环境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3240" y="3141720"/>
            <a:ext cx="54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原菌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685800" y="3701880"/>
            <a:ext cx="7621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24000" y="32846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呼吸道大多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95280" y="3789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少数血行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1371600" y="3473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肺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1676520" y="3244320"/>
            <a:ext cx="38088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8" name="Line 10"/>
          <p:cNvSpPr/>
          <p:nvPr/>
        </p:nvSpPr>
        <p:spPr>
          <a:xfrm>
            <a:off x="1676520" y="37018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9" name="Line 11"/>
          <p:cNvSpPr/>
          <p:nvPr/>
        </p:nvSpPr>
        <p:spPr>
          <a:xfrm>
            <a:off x="1676520" y="3778200"/>
            <a:ext cx="38088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190512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支气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981080" y="3473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1981080" y="3930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间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3" name="Line 15"/>
          <p:cNvSpPr/>
          <p:nvPr/>
        </p:nvSpPr>
        <p:spPr>
          <a:xfrm>
            <a:off x="2971800" y="324468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4" name="Line 16"/>
          <p:cNvSpPr/>
          <p:nvPr/>
        </p:nvSpPr>
        <p:spPr>
          <a:xfrm flipV="1">
            <a:off x="2819520" y="4006440"/>
            <a:ext cx="38088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2627280" y="3716280"/>
            <a:ext cx="576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6" name="Text Box 18"/>
          <p:cNvSpPr/>
          <p:nvPr/>
        </p:nvSpPr>
        <p:spPr>
          <a:xfrm>
            <a:off x="3124080" y="3259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7" name="Text Box 19"/>
          <p:cNvSpPr/>
          <p:nvPr/>
        </p:nvSpPr>
        <p:spPr>
          <a:xfrm>
            <a:off x="3132000" y="37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换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4114800" y="347328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9" name="Line 21"/>
          <p:cNvSpPr/>
          <p:nvPr/>
        </p:nvSpPr>
        <p:spPr>
          <a:xfrm flipV="1">
            <a:off x="4114800" y="370152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4219920" y="2852640"/>
            <a:ext cx="734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缺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二氧化碳潴留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1" name="Line 23"/>
          <p:cNvSpPr/>
          <p:nvPr/>
        </p:nvSpPr>
        <p:spPr>
          <a:xfrm flipV="1">
            <a:off x="4952880" y="2939760"/>
            <a:ext cx="30492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2" name="Line 24"/>
          <p:cNvSpPr/>
          <p:nvPr/>
        </p:nvSpPr>
        <p:spPr>
          <a:xfrm flipV="1">
            <a:off x="5029200" y="3473280"/>
            <a:ext cx="3049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3" name="Line 25"/>
          <p:cNvSpPr/>
          <p:nvPr/>
        </p:nvSpPr>
        <p:spPr>
          <a:xfrm>
            <a:off x="5029200" y="3778200"/>
            <a:ext cx="30492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4" name="Line 26"/>
          <p:cNvSpPr/>
          <p:nvPr/>
        </p:nvSpPr>
        <p:spPr>
          <a:xfrm>
            <a:off x="4952880" y="3930480"/>
            <a:ext cx="38124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364000" y="266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循环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5257800" y="3244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枢神经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5257800" y="3778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5257800" y="4311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水、电解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9" name="AutoShape 31"/>
          <p:cNvSpPr/>
          <p:nvPr/>
        </p:nvSpPr>
        <p:spPr>
          <a:xfrm>
            <a:off x="6659640" y="2492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877080" y="22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肺动脉高压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877080" y="2637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心肌炎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948360" y="292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心力衰竭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3" name="Line 35"/>
          <p:cNvSpPr/>
          <p:nvPr/>
        </p:nvSpPr>
        <p:spPr>
          <a:xfrm>
            <a:off x="6781680" y="34732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7308720" y="3357720"/>
            <a:ext cx="1371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脑水肿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脑病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5" name="Line 37"/>
          <p:cNvSpPr/>
          <p:nvPr/>
        </p:nvSpPr>
        <p:spPr>
          <a:xfrm>
            <a:off x="6248520" y="4006800"/>
            <a:ext cx="3045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477120" y="38228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功能紊乱、麻痹、出血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7" name="Line 39"/>
          <p:cNvSpPr/>
          <p:nvPr/>
        </p:nvSpPr>
        <p:spPr>
          <a:xfrm>
            <a:off x="6477120" y="44956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6877080" y="42926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酸中毒、低钾性碱中毒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2746800" y="4800600"/>
            <a:ext cx="109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增快心率增快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0" name="Line 42"/>
          <p:cNvSpPr/>
          <p:nvPr/>
        </p:nvSpPr>
        <p:spPr>
          <a:xfrm flipH="1">
            <a:off x="3809880" y="4343400"/>
            <a:ext cx="457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1" name="Picture 43" descr="肺部解剖2"/>
          <p:cNvPicPr/>
          <p:nvPr/>
        </p:nvPicPr>
        <p:blipFill>
          <a:blip r:embed="rId1"/>
          <a:stretch/>
        </p:blipFill>
        <p:spPr>
          <a:xfrm>
            <a:off x="7894800" y="5734080"/>
            <a:ext cx="1249200" cy="11239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44"/>
          <p:cNvSpPr/>
          <p:nvPr/>
        </p:nvSpPr>
        <p:spPr>
          <a:xfrm>
            <a:off x="4645080" y="5181480"/>
            <a:ext cx="186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鼻翼扇动三凹征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衰竭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40384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呼吸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4" name="Line 46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5" name="Line 47"/>
          <p:cNvSpPr/>
          <p:nvPr/>
        </p:nvSpPr>
        <p:spPr>
          <a:xfrm>
            <a:off x="4648320" y="5181480"/>
            <a:ext cx="60948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6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77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770" fill="hold"/>
                                        <p:tgtEl>
                                          <p:spTgt spid="8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216864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1692360" y="1341360"/>
            <a:ext cx="65721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腔：短、狭、嫩、血管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窦：口大、上颌窦、筛窦易感染</a:t>
            </a:r>
            <a:r>
              <a:rPr b="0" lang="zh-CN" sz="2400" spc="-1" strike="noStrike" u="sng">
                <a:solidFill>
                  <a:srgbClr val="d1b6dc"/>
                </a:solidFill>
                <a:uFillTx/>
                <a:latin typeface="楷体"/>
                <a:hlinkClick r:id="rId1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咽鼓管：宽、直、短、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扁桃体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喉 部：漏斗形、腔窄、声门裂相对窄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6" name="左大括号 5"/>
          <p:cNvSpPr/>
          <p:nvPr/>
        </p:nvSpPr>
        <p:spPr>
          <a:xfrm>
            <a:off x="1332000" y="1413000"/>
            <a:ext cx="431640" cy="468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680000"/>
              <a:gd name="textAreaBottom" fmla="*/ 466884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749160" y="3141720"/>
            <a:ext cx="546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呼吸道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8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387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轻症肺炎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加快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翼扇动、点头呼吸、三凹征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中、细湿啰音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Oval 3"/>
          <p:cNvSpPr/>
          <p:nvPr/>
        </p:nvSpPr>
        <p:spPr>
          <a:xfrm>
            <a:off x="1066680" y="2344680"/>
            <a:ext cx="228600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呼吸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638680" y="2344680"/>
            <a:ext cx="228600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循环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1357200" y="5105520"/>
            <a:ext cx="228600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消化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5486400" y="4782960"/>
            <a:ext cx="2286000" cy="1295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5" name="Picture 7" descr="fc_haien"/>
          <p:cNvPicPr/>
          <p:nvPr/>
        </p:nvPicPr>
        <p:blipFill>
          <a:blip r:embed="rId5"/>
          <a:stretch/>
        </p:blipFill>
        <p:spPr>
          <a:xfrm>
            <a:off x="3124080" y="2954160"/>
            <a:ext cx="2828880" cy="250668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8"/>
          <p:cNvSpPr/>
          <p:nvPr/>
        </p:nvSpPr>
        <p:spPr>
          <a:xfrm>
            <a:off x="82692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重症肺炎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7" name="图片 1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5472000" cy="1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循环系统：心肌炎、心力衰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肌炎：面色苍白、心动过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音低钝、心律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突然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率突然婴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幼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极度烦躁不安，明显发绀，面色苍白、发灰，指趾甲微血管再充盈时间延长。以上三项不能用发热、肺炎本身和其他并发症解释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音低钝，奔马律、颈静脉怒张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肝迅速增大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尿少或无尿，眼睑或双下肢水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具备前五项就可诊断肺炎合并心力衰竭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-684360" y="2133360"/>
            <a:ext cx="928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神经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脑水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性脑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-612720" y="1989000"/>
            <a:ext cx="712944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消化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食欲减退、呕吐、腹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中毒性肠麻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消化道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4000" y="1447920"/>
            <a:ext cx="8854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血常规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性肺炎白细胞计数升高、中性粒细胞增多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性肺炎白细胞大多正常或偏低，淋巴细胞增高或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淋巴细胞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764640"/>
            <a:ext cx="8077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反应蛋白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时血清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值多上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细菌性感染时上升不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学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咽拭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痰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泡灌洗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血标本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穿刺组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胸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线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纹理增粗，点片状阴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1" name="Picture 5" descr="P1010010"/>
          <p:cNvPicPr/>
          <p:nvPr/>
        </p:nvPicPr>
        <p:blipFill>
          <a:blip r:embed="rId1">
            <a:lum bright="6000"/>
          </a:blip>
          <a:srcRect l="3735" t="16447" r="5121" b="21303"/>
          <a:stretch/>
        </p:blipFill>
        <p:spPr>
          <a:xfrm>
            <a:off x="5076720" y="3429000"/>
            <a:ext cx="3888000" cy="29415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5"/>
          <p:cNvSpPr/>
          <p:nvPr/>
        </p:nvSpPr>
        <p:spPr>
          <a:xfrm>
            <a:off x="1619280" y="494172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0" name="Picture 10" descr="图片2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9500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1"/>
          <p:cNvSpPr/>
          <p:nvPr/>
        </p:nvSpPr>
        <p:spPr>
          <a:xfrm>
            <a:off x="3930480" y="525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鼻窦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采用综合治疗措施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控制感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改善肺通气功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强护理和对症治疗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防治并发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居室或病室室温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相对湿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宜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交叉感染；保持呼吸道通畅；保持呼吸道湿润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换体位、拍背，以利痰液排出；给予易消化且富含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质和维生素的饮食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原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早期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联合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渗入下呼吸道浓度高的药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足量、足疗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重症宜经静脉途径给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7732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肺炎链球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敏感者首选青霉素或阿莫西林；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过敏者选用大环内酯类抗生素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金黄色葡萄球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甲氧西林敏感着首选苯唑西林钠或氯唑西林钠；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耐药者选用万古霉素或联合利福平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流感嗜血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阿莫西林加克拉维酸（或加舒巴坦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肠埃希菌和肺炎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头孢曲松或头孢噻肟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铜绿假单胞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替卡西林加克拉维酸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肺炎支原体和衣原体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楷体"/>
              </a:rPr>
              <a:t>首选大环内酯类抗生素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真菌性肺炎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选用两性霉素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、氟康唑、伏立康唑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用至体温正常后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临床症状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消失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葡萄球菌肺炎易复发及产生并发症，体温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后继续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总疗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支原体肺炎至少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抗病毒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支持疗法、对症疗法和加强护理等居重要地位，有肯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的抗病毒药物减少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4000" y="1066320"/>
            <a:ext cx="81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缺氧症状时应及时吸氧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、咳嗽、咳痰者，给予退热、祛痰、止咳，保持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通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喘憋明显者可用支气管解痉剂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胀低钾者及时补钾，中毒性肠麻痹给予禁食、胃肠减压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解质和酸解失衡者给予纠正水、电解质、酸碱平衡紊乱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066320"/>
            <a:ext cx="815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糖皮质激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无需常规使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用指征：喘憋明显伴呼吸道分泌物增多者；中毒症状明显的重症肺炎，如合并中毒性脑病、休克、脓毒症者；有急性肺损伤或全身炎症反应综合征者；短期内胸腔内有大量渗出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肺炎合并心力衰竭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治疗原则为镇静、吸氧、强心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利尿和应用血管活性药物。可用水合氯醛射肛给药镇静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具有正性肌力、负性频率作用的快速洋地黄制剂，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毒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尿少伴水肿者可用呋塞米利尿；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管活性药物选酚妥拉明等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中毒性脑病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纠正缺氧和减轻脑水肿。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甘露醇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脉注射，辅以地塞米松和呋塞米降颅压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3" descr="3bb22487c9531c39c65cc333"/>
          <p:cNvPicPr/>
          <p:nvPr/>
        </p:nvPicPr>
        <p:blipFill>
          <a:blip r:embed="rId1"/>
          <a:stretch/>
        </p:blipFill>
        <p:spPr>
          <a:xfrm>
            <a:off x="900000" y="1197000"/>
            <a:ext cx="82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生物制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重症患儿可静脉注射人血丙种球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0mg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g·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连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8498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呼吸道分泌过多、痰液黏稠、咳嗽无力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体交换受损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炎症致通气、换气功能障碍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感染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心力衰竭、中毒性脑病、中毒性肠麻痹等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营养失调：低于机体需要量  与摄入不足、消耗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措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77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改善呼吸功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维持体温正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密切观察病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指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合胞病毒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RSV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感染所致，是最常见的病毒性肺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婴幼儿，尤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内的婴儿多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较早：哮鸣音、呼吸音减弱、湿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点片状薄阴影、梗阻性肺气肿、支气管周围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大多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5"/>
          <p:cNvSpPr/>
          <p:nvPr/>
        </p:nvSpPr>
        <p:spPr>
          <a:xfrm>
            <a:off x="1495800" y="208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呼吸道合胞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90000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骤，全身中毒症状明显，稽留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频繁，可出现喘憋、呼吸困难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晚，高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后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胸片改变较肺部体征早，大小不等的片状阴影、肺气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偏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755640" y="260280"/>
            <a:ext cx="26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腺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7256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金黄色葡萄球菌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新生儿及婴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，病程重，发展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为弛张热，皮肤有猩红样皮疹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症状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早，可闻及中、细湿啰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易并发脓胸、脓气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总数及中性粒细胞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治疗：苯唑西林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4" descr="u=3533083051,1464226642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1" descr="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肺炎支原体肺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缓慢，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多见于年长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刺激性干咳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不明显，中毒症状不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痛：咽、胸、肌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系统损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门阴影增浓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间质性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均一的实变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环内酯类药物：阿奇霉素、红霉素、克林霉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五节  支气管哮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简称哮喘，是由多种细胞（肥大细胞、嗜酸性粒细胞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淋巴细胞、中性粒细胞、气道上皮细胞等）参与的气道慢性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性疾病，引起气道高反应导致可逆性气道阻塞。临床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性喘息、呼吸困难、胸闷或咳嗽，常在夜间和（或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晨发作或加剧，多数患儿可经治疗缓解或自行缓解。全球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患者，发达国家高于发展中国家，城市高于农村。儿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如诊治不及时，随病程的延长可产生气道不可逆性狭窄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重塑。因此，早期防治很重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的病因还不十分清楚，患者个体过敏体质及外界环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影响是发病的危险因素。哮喘与多基因遗传有关，同时受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因素和环境因素的双重影响。多数患儿既往有婴儿湿疹、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鼻炎、药物或食物过敏，不少患儿有家族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8532720" y="5805360"/>
            <a:ext cx="6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6" name="Picture 6" descr="01300000165488122413157483051_s"/>
          <p:cNvPicPr/>
          <p:nvPr/>
        </p:nvPicPr>
        <p:blipFill>
          <a:blip r:embed="rId1"/>
          <a:stretch/>
        </p:blipFill>
        <p:spPr>
          <a:xfrm>
            <a:off x="684360" y="981000"/>
            <a:ext cx="8459640" cy="58770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诱发因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感染：病毒感染是哮喘发作的重要原因，呼吸道合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胞病毒、流感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特异性刺激：尘螨、花粉、真菌、动物毛屑、化学气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二氧化硫）、烟、油漆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候变化：寒冷、空气干燥、大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药物：阿司匹林、磺胺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食物：鱼、虾蟹、蛋、牛奶、食品添加剂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他：大笑、过度兴奋、大哭、剧烈运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气道炎症是哮喘的最主要病理改变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流受限是哮喘病理生理改变的核心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痉挛、管壁炎症性肿胀、黏液栓形成和气道重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塑均是造成患儿气道受阻的原因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高反应性是哮喘的基本特征之一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咳嗽和喘息呈阵发性发作，以夜间和清晨为重，发作前可有流涕、打喷嚏、胸闷，发作时呼吸困难，呼气相延长伴有喘鸣音。严重时呈端坐呼吸，恐惧不安、大汗淋漓、面色青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体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桶状胸、三凹征，肺部布满哮鸣音，严重者气道广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堵塞，哮鸣音反而消失，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闭锁肺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，是哮喘最危险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哮喘危重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发作在合理应用常规缓解药物治疗后仍有严重或进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的呼吸困难者，称为哮喘危重状态（哮喘持续状态）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，出现咳嗽喘息、呼吸困难、大汗淋漓、烦躁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安甚至表现为端坐呼吸、语言不连贯、严重发绀、意识障碍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心肺功能不全的征象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喘息、咳嗽、气促、胸闷，多于接触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原、冷空气、物理或化学刺激、呼吸道感染及运动等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，常在夜间和（或）清晨发作或加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作时在双肺可闻及散在或弥漫性，以呼气相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的哮鸣音，呼气相延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上述症状和体征经抗哮喘治疗有效或自行缓解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除外其他疾病所引起的喘息、咳嗽、气促和胸闷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77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临床表现不典型者（无明显喘息或哮鸣音），应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少具备以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激发试验或运动激发试验阳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实存在可逆性气流受限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舒张实验阳性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吸入速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受体激动剂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喘治疗有效：使用支气管舒张剂和口服（或吸入）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皮质激素治疗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③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符合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或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者，可以诊断为哮喘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7138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咳嗽变异性哮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咳嗽持续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，常在夜间和（或）清晨发作或加剧，以干咳为主。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临床上无感染征象，或经较长时间抗生素治疗无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抗哮喘药物诊断性治疗有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排除其他原因引起的慢性咳嗽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支取管激发试验阳性和（或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个人或一级、二级亲属有特异性疾病史，或变应原测试阳性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以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项为诊断的基本条件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2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肺功能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用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上患儿。常用的指标有第一秒呼气容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计值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用力肺活量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V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VC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呼气峰流速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支气管舒张试验反映了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逆性气道阻塞，是哮喘诊断依据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11040" y="278136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呼吸道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0" name="左大括号 5"/>
          <p:cNvSpPr/>
          <p:nvPr/>
        </p:nvSpPr>
        <p:spPr>
          <a:xfrm>
            <a:off x="1332000" y="2492280"/>
            <a:ext cx="571320" cy="23576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357640"/>
              <a:gd name="textAreaBottom" fmla="*/ 234288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8"/>
                  <a:pt x="10800" y="436"/>
                </a:cubicBezTo>
                <a:lnTo>
                  <a:pt x="10800" y="10364"/>
                </a:lnTo>
                <a:cubicBezTo>
                  <a:pt x="10800" y="10582"/>
                  <a:pt x="5400" y="10800"/>
                  <a:pt x="0" y="10800"/>
                </a:cubicBezTo>
                <a:cubicBezTo>
                  <a:pt x="5400" y="10800"/>
                  <a:pt x="10800" y="11018"/>
                  <a:pt x="10800" y="11236"/>
                </a:cubicBezTo>
                <a:lnTo>
                  <a:pt x="10800" y="21164"/>
                </a:lnTo>
                <a:cubicBezTo>
                  <a:pt x="10800" y="213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1" name="矩形 6"/>
          <p:cNvSpPr/>
          <p:nvPr/>
        </p:nvSpPr>
        <p:spPr>
          <a:xfrm>
            <a:off x="2050920" y="23493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气管、支气管：狭小、软骨软、血管多、纤毛运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动差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肺：弹力差、血管丰、间质盛、肺泡少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胸部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线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可有过度通气及肺纹理增重，病史长者可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气肿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过敏原测试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用的包括皮肤点刺试验、体外血清特异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血清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。对了解哮喘个体的病因和危险因素，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是否是特异性体质有重要意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AHR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功能正常时，可用醋甲胆碱、组胺等药物以及运动行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管激发试验。试验阳性可诊断存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HR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哮喘诊断依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坚持长期、持续、规范和个体化的治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重点为抗炎、平喘，以便快速缓解症状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慢性持续期应坚持长期抗炎，降低气道反应性，防止气道重塑，避免危险因素和自我保健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效控制急性发作症状，并维持最轻的症状，甚至无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症状加重或反复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尽可能将肺功能维持在正常或接近正常水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发生不可逆的气流受限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正常活动（包括运动）能力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药物不良反应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因哮喘而死亡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除病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接触过敏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除各种诱发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治疗和清除感染病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缓解支气管痉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轻气道黏膜水肿和炎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少黏液分泌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哮喘慢性持续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吸入糖皮质激素是目前控制哮喘的最有效的首选药。局部抗炎作用强，不良反应少。通常需长期规范吸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加重的处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注意氧疗、补液、纠正酸中毒，慎用镇静剂，评估对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的反应性和既往哮喘急性发作的状态，早期静脉使用全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糖皮质激素，亦可静点氨茶碱，必要时行机械通气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预防复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避免接触过敏原，积极治疗和清除感染灶，去除各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诱发因素。吸入维持量糖皮质激素，控制气道反应性炎症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是预防复发的关键。此外，特异性免疫治疗，可使机体对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敏原产生耐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2:00:40Z</dcterms:created>
  <dc:creator>zhaoxin</dc:creator>
  <dc:description/>
  <dc:language>en-US</dc:language>
  <cp:lastModifiedBy>微软用户</cp:lastModifiedBy>
  <dcterms:modified xsi:type="dcterms:W3CDTF">2015-09-07T02:54:00Z</dcterms:modified>
  <cp:revision>249</cp:revision>
  <dc:subject/>
  <dc:title>ThemeGallery PowerTemplate</dc:title>
</cp:coreProperties>
</file>